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EC01B-5E4C-4FCE-BE1F-5CD719EA9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C819F-2D79-4966-9674-D097C212F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903ED-0209-4C7F-865D-BD4A529F4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7C13D-5B52-4841-8215-AE2FD7FE5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83029-B548-4881-8608-7B7312E88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ED48F-6ED2-43EC-ABA5-31B5060F7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703BA-0E8A-408E-99E1-5E2E76A59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373F8-C05D-4948-9052-B7986E32B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A4891-71A2-4BED-A47A-CEAF1E5E4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FE446-2517-455E-9350-9525D5973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C5427-BA73-4BFE-B781-D52052BCD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0E93F-053E-4EEB-8CDD-110F4397F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C983A-6993-4A5F-B94F-344E0DAFF3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ality Law in Ireland</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sability Gr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selaw</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imes v Iarnrod Eireann: DEC-2012-04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aham v Atolvo Enterprises Ltd: DEC-2012-05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Employee v A Government Department DEC-2012-06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anager v A Food Production Company: DEC-2012-09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selaw</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rray v Premair Marketing Services Ltd: DEC-2012-08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irke v Sepam Specialists Ltd:DEC-2012-116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Employee v A Logistics Company: DEC-2012-01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Prison Officer v The Prison Service: DEC-2012-12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egisla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rish legisla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ment Equality Acts 1998 and 2011,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l Status Acts 2000 to 20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sions Acts 1990 to 201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C law</a:t>
            </a:r>
            <a:r>
              <a:rPr b="0" lang="en-US" sz="3200" spc="-1" strike="noStrike">
                <a:solidFill>
                  <a:srgbClr val="000000"/>
                </a:solidFill>
                <a:latin typeface="Arial"/>
              </a:rPr>
              <a:t>: Article 19 (ex Article 13) EU Treaty, Gender Directives, Race Directive, Framework Directi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Arial"/>
              </a:rPr>
              <a:t>Scope of the legisla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000000"/>
                </a:solidFill>
                <a:latin typeface="Arial"/>
              </a:rPr>
              <a:t>Protection against prohibited conduct on the disability groun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Employment Equality Ac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pply to all aspects of employment, including access to employment, advertising, vocational training, membership of trade unions and  occupational bodies, and collective agreemen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ction Extends T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Direct and indirect discrimin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revious, future, imputed disabi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Disability-based harassm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Victimisation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 of Disability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otal or partial absence of bodily/mental func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resence of organisms likely to cause chronic disease /illn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Malfunction/malformation/disfigurement of bod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ondition/malfunction resulting in learning differently, 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ondition/illness/disease affecting thought processes, perception of reality, emotions or judgment, or resulting in disturbed behaviou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s been defined as a disability</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pileps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cohol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pergers Syndr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rcoleps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thma</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rPr>
              <a:t>Not Str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Reasonable Accommodation</a:t>
            </a:r>
            <a:br>
              <a:rPr sz="4400"/>
            </a:br>
            <a:r>
              <a:rPr b="0" lang="en-US" sz="2400" spc="-1" strike="noStrike">
                <a:solidFill>
                  <a:srgbClr val="000000"/>
                </a:solidFill>
                <a:latin typeface="Arial"/>
              </a:rPr>
              <a:t>section 16</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r>
              <a:rPr b="0" lang="en-IE" sz="2800" spc="-1" strike="noStrike">
                <a:solidFill>
                  <a:srgbClr val="000000"/>
                </a:solidFill>
                <a:latin typeface="Arial"/>
              </a:rPr>
              <a:t>Employers not required to recruit or retain a person who is not fully competent to carry out duties.</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r>
              <a:rPr b="0" lang="en-IE" sz="2800" spc="-1" strike="noStrike">
                <a:solidFill>
                  <a:srgbClr val="000000"/>
                </a:solidFill>
                <a:latin typeface="Arial"/>
              </a:rPr>
              <a:t>Person with a disability is assumed competent and fully capable of duties... provid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Employers take appropriate measures which are effective and practic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Unless disproportionate burd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est for reasonable accommodation  I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 Health and Fitness Club -v- A Worker</a:t>
            </a:r>
            <a:br>
              <a:rPr sz="3200"/>
            </a:br>
            <a:r>
              <a:rPr b="0" lang="en-IE" sz="3200" spc="-1" strike="noStrike">
                <a:solidFill>
                  <a:srgbClr val="000000"/>
                </a:solidFill>
                <a:latin typeface="Arial"/>
              </a:rPr>
              <a:t>Labour Court Determination No. EED037 - (case upheld on appeal to the Circuit Cour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est for reasonable accommodation II</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ture and extent of the enquiries which an employer should make will depend on the circumstances of each case. At a minimum, however, an employer, should ensure that he or she is in full possession of all the material facts concerning the employee's condition ….. The employee must also be allowed an opportunity to influence the employer's decis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actical terms this will normally require a two-stage enquiry, which looks firstly at the factual position concerning the employee's capability including the degree of impairment arising from the disability and its likely duration. This would involve looking at the medical evidence available to the employer either from the employee's doctors or obtained independent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ly, if it is apparent that the employee is not fully capable, s.16(3) of the Act requires the employer to consider what if any special treatment or facilities may be available by which the employee can become fully cap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7T16:19:16Z</dcterms:created>
  <dc:creator>larkinsm</dc:creator>
  <dc:description/>
  <dc:language>en-US</dc:language>
  <cp:lastModifiedBy>larkinsm</cp:lastModifiedBy>
  <dcterms:modified xsi:type="dcterms:W3CDTF">2012-10-18T14:55:47Z</dcterms:modified>
  <cp:revision>4</cp:revision>
  <dc:subject/>
  <dc:title>Equality Law in Ireland</dc:title>
</cp:coreProperties>
</file>