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615-7D0D-4564-A91A-8049881A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Segnaposto numero diapositiva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335-D4B7-428F-9D67-1669CBB97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5A5-BF6C-4ED0-BBDF-8658E771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B47-A697-47B1-8F8B-DBF22E5E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83E-4816-4DE1-8BF7-322161F2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649-B3D4-41AB-8816-92D38ED9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FF77-30FD-45E6-B269-4A2C96A8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AB0B-B7FF-4E39-85BF-D2A35B44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1C4-366E-4D97-8E3E-D7D6004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2789-4202-4480-8341-0F048D08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BD32-5BCE-49EE-983B-6E3DB8C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634-3A13-4266-AC8D-42F67E5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6341-DE13-41FA-8050-8382B3B7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60B-2C0E-4893-BD68-E8FD1A0F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2E49-94CC-48D0-8EDD-94C490F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159-A09E-4180-B823-A2E250D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8F9-6F4A-4B9A-9C42-88DA02D3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DB9-AA12-4DA7-BCF6-59B8672F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92E-B32B-4E4A-8DD4-A236CE96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A28-156C-4B97-A5E4-6124BEC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FE1-69D6-44AF-A741-52E48F28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BB1-DBE9-4316-AECC-725C7505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3FC-A995-4174-8220-8537DAB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13E-8FA2-422D-BB55-7074A33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109-D72B-45B3-BE7F-C7CE54B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7E9-0742-41D0-8026-F5C2575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ritti glob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548F-A3D7-489F-A5B5-D72E3502B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ritti glob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F53-8A6D-4039-91D7-CCE3E069F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C54-927B-4CCF-A35B-C767CBEF06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2763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cc6600"/>
                </a:solidFill>
                <a:latin typeface="Times New Roman"/>
              </a:rPr>
              <a:t>Globalisation and </a:t>
            </a:r>
            <a:br>
              <a:rPr sz="5000"/>
            </a:br>
            <a:r>
              <a:rPr b="1" i="1" lang="en-US" sz="5000" spc="-1" strike="noStrike">
                <a:solidFill>
                  <a:srgbClr val="cc6600"/>
                </a:solidFill>
                <a:latin typeface="Times New Roman"/>
              </a:rPr>
              <a:t>the world of work </a:t>
            </a:r>
            <a:endParaRPr b="0" i="1" lang="en-US" sz="5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7058-B518-41B0-B0FE-3A5D7C2F7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In the last 20 years 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unregulated globalization….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deepened the ga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strengthened a neo-liberist economic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C02-1A79-4DB8-A78E-42A9718E25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In the last 20 years,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unregulated globalization has implied….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doption of privatization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worsening of liv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attacks against the trade union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precarisation and incertit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038-0560-48D6-8949-4F02CACA0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In the last 20 years,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unregulated globalization has increased…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gap between North and South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awareness of ine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F4E-EF36-4437-A23C-1DD108093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objective must be the globalisation process to be “fair” meaning that: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does not exclude any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democr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can guarantee opportunities and advantages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6B9-8188-485B-B2C6-DB46C2940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Global economy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Marlett"/>
                <a:ea typeface="Marlett"/>
              </a:rPr>
              <a:t>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Unregulated competition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6600"/>
                </a:solidFill>
                <a:latin typeface="Marlett"/>
                <a:ea typeface="Marlett"/>
              </a:rPr>
              <a:t>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Unprotected lab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12AE-434E-446E-AAC5-2DEBE833CE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1,5 billion of people live in poverty  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(-than 2 US$ per day)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500 million live in extreme poverty 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(-than 1 US$ per day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2FD-6B36-4478-BEBA-6D6406BB0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20% of world population </a:t>
            </a:r>
            <a:br>
              <a:rPr sz="3600"/>
            </a:b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living in the high income countries </a:t>
            </a:r>
            <a:br>
              <a:rPr sz="3600"/>
            </a:b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dominates </a:t>
            </a:r>
            <a:br>
              <a:rPr sz="3600"/>
            </a:b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86% of the world wealth</a:t>
            </a:r>
            <a:br>
              <a:rPr sz="3600"/>
            </a:b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583E-F386-4442-95F4-72C72C5D5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95% of working children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live in the developing countri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2960" y="930240"/>
            <a:ext cx="7375680" cy="49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28,000 children die from poverty-related causes everyday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8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703-E732-4147-9B0C-D4F5C90BC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397720" cy="521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- 115 million school-aged children are not in school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- 133 million young people cannot read and write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2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CD0-374F-4064-87CD-21BFC19953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6E0-A7FE-4589-BDED-D86F44E83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) What does globalization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) Ungoverned glob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) The trade union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32644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wo-thirds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f the world’s illiterate people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re wome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6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4AE-5C94-4462-92C6-05D486D77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32644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ver 11 million children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under the age of five die each year, most from preventable disea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0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891-9270-42B0-AF3B-CE35B6353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540640" cy="42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ver 2.4 billion people lack access to proper sanitation facilities and one billion lack access to drinkable water</a:t>
            </a:r>
            <a:br>
              <a:rPr sz="40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4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D8E-DF58-459B-AFD1-378B81DC6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83560" cy="542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ows receive more aid than people (Europe’s cows receive $2/day in subsidies)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Many developing countries spend more on interest repayments on their debt than they do on health and education combined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Only 5 of the world’s rich countries give the amount of aid they committed to in 1970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8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BA12-17FB-423D-8B1C-BF7F6DB26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611920" cy="542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- More than 500,000 women die from complications of pregnancy and childbirth every year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- More than 50 million women suffer from poor reproductive health and serious pregnancy-related illness and disability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Segnaposto data 2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egnaposto piè di pagina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egnaposto numero diapositiva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6651-3C92-41C4-A62A-4BE898B19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D70C-C4DC-4818-93F4-A58C218D6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6600"/>
                </a:solidFill>
                <a:latin typeface="Times New Roman"/>
              </a:rPr>
              <a:t>Globalization today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181-B36C-478E-8873-97FB5847F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nterlinked world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w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open poli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conomic re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cial and political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CA85-5AE3-41D2-955A-C16CE187E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429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  <a:ea typeface="Courier New"/>
              </a:rPr>
              <a:t>» awareness of belonging to a global commun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EC8-0B18-4B91-8C15-396A127F8C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429000"/>
            <a:ext cx="8305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  <a:ea typeface="Courier New"/>
              </a:rPr>
              <a:t>» globalization as a process which demands rul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A28-7922-4039-848D-B16CDDDF7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ontradi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owth/ine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ces / homolo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w negative energies / stren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egnaposto piè di pagina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egnaposto numero diapositiva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B208-2D59-4945-AEDC-1E0A77208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mmediate effect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commercial ex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foreign inves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weight of international 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access to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nsformation in the life sty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lvana Cappuc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8EE-92B4-4E24-AD77-3BFB485076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37335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growth of global markets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has not got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 parallel development 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f economic and social institu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4:53:40Z</dcterms:created>
  <dc:creator>Silvana</dc:creator>
  <dc:description/>
  <dc:language>en-US</dc:language>
  <cp:lastModifiedBy>stellanh</cp:lastModifiedBy>
  <dcterms:modified xsi:type="dcterms:W3CDTF">2009-04-01T10:57:24Z</dcterms:modified>
  <cp:revision>33</cp:revision>
  <dc:subject/>
  <dc:title>Against social exclusion...</dc:title>
</cp:coreProperties>
</file>