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1098-CA6E-4C45-947F-6E9E0FD4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85CE-4ADD-4D19-82EA-69B5498A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pcc.ch/pdf/assessment-report/ar4/wg2/ar4-wg2-chapter8.pdf – It’s 150,000 were estimated by the WHO to have died in 2000 due to climat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5 million people employed in coffee production in Uga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ith a 2 degree increase in temperature, coffee production will be wiped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ering of ambition by Presidency / developed countries / emerging economies on legally binding out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 FAB d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 clear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shift the picture on climate change away from polar bears and orangs to the devastating impacts on the lives of millions of the world’s poores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shift the picture on climate change away from polar bears and orangs to the devastating impacts on the lives of millions of the world’s poores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ippt"/>
          <p:cNvPicPr/>
          <p:nvPr/>
        </p:nvPicPr>
        <p:blipFill>
          <a:blip r:embed="rId2"/>
          <a:stretch/>
        </p:blipFill>
        <p:spPr>
          <a:xfrm>
            <a:off x="2095560" y="5514840"/>
            <a:ext cx="7048440" cy="134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94920" y="114300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cc00"/>
                </a:solidFill>
                <a:latin typeface="Arial"/>
              </a:rPr>
              <a:t>Climate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tretch/>
        </p:blipFill>
        <p:spPr>
          <a:xfrm>
            <a:off x="7848720" y="228600"/>
            <a:ext cx="96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360" y="331920"/>
            <a:ext cx="417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99cc00"/>
                </a:solidFill>
                <a:latin typeface="Arial"/>
              </a:rPr>
              <a:t>Impacts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lting glaciers and ice-c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ising sea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eavier 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re frequent dr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99cc00"/>
                </a:solidFill>
                <a:latin typeface="Arial"/>
              </a:rPr>
              <a:t>Climate change in not just an </a:t>
            </a:r>
            <a:br>
              <a:rPr sz="4000"/>
            </a:br>
            <a:r>
              <a:rPr b="0" lang="en-IE" sz="4000" spc="-1" strike="noStrike">
                <a:solidFill>
                  <a:srgbClr val="99cc00"/>
                </a:solidFill>
                <a:latin typeface="Arial"/>
              </a:rPr>
              <a:t>environmental issu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a human rights 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a development 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IE" sz="4400" spc="-1" strike="noStrike">
                <a:solidFill>
                  <a:srgbClr val="000000"/>
                </a:solidFill>
                <a:latin typeface="Arial"/>
              </a:rPr>
              <a:t> a justice 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ss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99cc00"/>
                </a:solidFill>
                <a:latin typeface="Arial"/>
              </a:rPr>
              <a:t>Climate Change Facts</a:t>
            </a:r>
            <a:r>
              <a:rPr b="1" lang="en-IE" sz="4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0 MILLION PEO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w affected by natural disasters each year - up from an average of 174 million two decade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0,000 PEOPLE DIE A YE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2050, 30 MILLION MORE PEOPLE MAY GO HUNG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5 MILLION PEO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b-Saharan Africa could die due to disease directly attributable to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8124" r="2199" b="0"/>
          <a:stretch/>
        </p:blipFill>
        <p:spPr>
          <a:xfrm>
            <a:off x="1371600" y="1523880"/>
            <a:ext cx="5524560" cy="4073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219320" y="6858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b2b2b2"/>
                </a:solidFill>
                <a:latin typeface="Arial"/>
              </a:rPr>
              <a:t>Frequency of Droughts in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9ff66"/>
                </a:solidFill>
                <a:latin typeface="Arial"/>
              </a:rPr>
              <a:t>Viable coffee land in Uganda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77384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IE" sz="4000" spc="-1" strike="noStrike">
                <a:solidFill>
                  <a:srgbClr val="99cc00"/>
                </a:solidFill>
                <a:latin typeface="Arial"/>
              </a:rPr>
              <a:t>What’s being done about it?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FC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yoto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ationa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.g. UK Climate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rish Climate B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Copenhagen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wa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as it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must come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Who was there?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pprox 190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119 world leaders inc. Obama, Wen Jiabao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chnoc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ivil society – trade unions, environmental, development 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From Ireland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aois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inister for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inister f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partment of Env, Finance, Ag, DFA, Irish Aid, E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li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What was it about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to tackle climate change after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limit on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greenhouse gas emissions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finance to deal with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uld have been a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r,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quate, and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ding d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99cc00"/>
                </a:solidFill>
                <a:latin typeface="Arial"/>
              </a:rPr>
              <a:t>What’s happening?</a:t>
            </a:r>
            <a:endParaRPr b="1" lang="en-US" sz="4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limate change is the greatest challenge of our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ry Robinson, Honorary President Oxfam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9cc00"/>
                </a:solidFill>
                <a:latin typeface="Arial"/>
              </a:rPr>
              <a:t>What went wrong in Copenhagen?</a:t>
            </a:r>
            <a:endParaRPr b="1" lang="en-US" sz="39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048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 with process, lack of transparency and breakdown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od of texts and negotiations based on entrenched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os and near collapse in High Level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The Copenhagen Accord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3886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ly inadequate to protect the lives and livelihoods of poor people vulnerable to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of an untransparent &amp; distrusted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4734000" cy="2840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432080" y="468792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0880" y="4495680"/>
            <a:ext cx="8610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napshot of current global political will. Key is relationship to Bali Action Plan man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Copenhagen outcomes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edges of emissions cuts by rich countries – but the same ones they’d mad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ast Start Financing - $30bn over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 Term Financing - $100bn p.a. from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greement to continue negoti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m of 2 degrees Cels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eaning….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certainty ov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ture d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ly binding out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ment of UNFCCC by alternative fora (G20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tigation pledg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de by 31 Jan likely to mea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ks-in low am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ks-in bottom-up approac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xpected mitigation pledges show minimum 4Gt gap to &lt;2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  <a:ea typeface="Arial"/>
              </a:rPr>
              <a:t>º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C trajectory (450ppm)</a:t>
            </a: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4569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2976840" y="205740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end of pledged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5867280" y="22860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062440" y="266688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end of pledged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029200" y="28954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Ireland at Copenhagen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presented through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ittle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ast start financing €100m over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99cc00"/>
                </a:solidFill>
                <a:latin typeface="Arial"/>
              </a:rPr>
              <a:t>Where now?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turn to 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 intercessional in J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P Mexico Nov/Dec ’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uild political will and process to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99cc00"/>
                </a:solidFill>
                <a:latin typeface="Arial"/>
              </a:rPr>
              <a:t>Campaigning on Climate Change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topClimateChaos13"/>
          <p:cNvPicPr/>
          <p:nvPr/>
        </p:nvPicPr>
        <p:blipFill>
          <a:blip r:embed="rId1"/>
          <a:stretch/>
        </p:blipFill>
        <p:spPr>
          <a:xfrm>
            <a:off x="1219320" y="1295280"/>
            <a:ext cx="4762440" cy="3333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no fee -  Stop Climate Chaos organised a demostration on Sandymount Strand05"/>
          <p:cNvPicPr/>
          <p:nvPr/>
        </p:nvPicPr>
        <p:blipFill>
          <a:blip r:embed="rId2"/>
          <a:stretch/>
        </p:blipFill>
        <p:spPr>
          <a:xfrm>
            <a:off x="4648320" y="3581280"/>
            <a:ext cx="396216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THANK YOU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9cc00"/>
                </a:solidFill>
                <a:latin typeface="Arial"/>
              </a:rPr>
              <a:t>The Science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ospheric concentration of greenhouse gases and global average temperatur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70102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he Urgency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5943600" cy="4190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443640" y="1628640"/>
            <a:ext cx="230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enhouse gas emissions are rising faster than even worst cas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9cc00"/>
                </a:solidFill>
                <a:latin typeface="Arial"/>
              </a:rPr>
              <a:t>Who’s responsible?</a:t>
            </a:r>
            <a:endParaRPr b="1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4660920" cy="2895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9280" y="155736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storic responsibility for climate change lies with richer industrialised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SA: 24 tonnes per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reland 17 tonnes per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561960" y="404640"/>
          <a:ext cx="8020080" cy="56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404640"/>
                    <a:ext cx="802008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polar bears melting ice"/>
          <p:cNvPicPr/>
          <p:nvPr/>
        </p:nvPicPr>
        <p:blipFill>
          <a:blip r:embed="rId1"/>
          <a:stretch/>
        </p:blipFill>
        <p:spPr>
          <a:xfrm>
            <a:off x="1042920" y="1125360"/>
            <a:ext cx="2952720" cy="245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orang jungle"/>
          <p:cNvPicPr/>
          <p:nvPr/>
        </p:nvPicPr>
        <p:blipFill>
          <a:blip r:embed="rId2"/>
          <a:stretch/>
        </p:blipFill>
        <p:spPr>
          <a:xfrm>
            <a:off x="971640" y="3716280"/>
            <a:ext cx="2952720" cy="224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403280" y="18864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Who is suffering already?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loods asia 2"/>
          <p:cNvPicPr/>
          <p:nvPr/>
        </p:nvPicPr>
        <p:blipFill>
          <a:blip r:embed="rId1"/>
          <a:stretch/>
        </p:blipFill>
        <p:spPr>
          <a:xfrm>
            <a:off x="4356000" y="1125360"/>
            <a:ext cx="3673440" cy="240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africa drought 2"/>
          <p:cNvPicPr/>
          <p:nvPr/>
        </p:nvPicPr>
        <p:blipFill>
          <a:blip r:embed="rId2"/>
          <a:stretch/>
        </p:blipFill>
        <p:spPr>
          <a:xfrm>
            <a:off x="4356000" y="3645000"/>
            <a:ext cx="3600720" cy="239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polar bears melting ice"/>
          <p:cNvPicPr/>
          <p:nvPr/>
        </p:nvPicPr>
        <p:blipFill>
          <a:blip r:embed="rId3"/>
          <a:stretch/>
        </p:blipFill>
        <p:spPr>
          <a:xfrm>
            <a:off x="1042920" y="1125360"/>
            <a:ext cx="2952720" cy="245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orang jungle"/>
          <p:cNvPicPr/>
          <p:nvPr/>
        </p:nvPicPr>
        <p:blipFill>
          <a:blip r:embed="rId4"/>
          <a:stretch/>
        </p:blipFill>
        <p:spPr>
          <a:xfrm>
            <a:off x="971640" y="3716280"/>
            <a:ext cx="2952720" cy="224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Who’s suffering already?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IE" sz="3600" spc="-1" strike="noStrike">
                <a:solidFill>
                  <a:srgbClr val="99cc00"/>
                </a:solidFill>
                <a:latin typeface="Arial"/>
              </a:rPr>
              <a:t>Who is suffering already?</a:t>
            </a:r>
            <a:endParaRPr b="1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hose living in 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east responsible for the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east able to 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21:13:01Z</dcterms:created>
  <dc:creator>Viv</dc:creator>
  <dc:description/>
  <dc:language>en-US</dc:language>
  <cp:lastModifiedBy>stellanh</cp:lastModifiedBy>
  <dcterms:modified xsi:type="dcterms:W3CDTF">2010-06-23T08:54:30Z</dcterms:modified>
  <cp:revision>403</cp:revision>
  <dc:subject/>
  <dc:title>Powerpoint presentation template</dc:title>
</cp:coreProperties>
</file>