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480-7C18-4A7B-8E03-51F43420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ED4-7878-4394-8BE4-6A2C8AE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BA7-0262-4FE5-9AC8-07BB18C3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3BD-EB10-4A4F-A808-27928987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85C-7251-4AA1-BB4D-A9656CE5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7DA-A0A0-4558-B546-4EF45E5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55C-D519-474D-8325-D3430178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5EE-E729-4DD7-9CD1-8353C79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7E3-034A-47B1-BAF7-A0091D8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A84-16B3-4A67-BB16-3A64F9EC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C97-6314-42B8-AA10-CC32059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CD2-58B7-40E3-8E84-1E5A55F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A55C-671B-438D-AEC0-95266114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8280" y="7308720"/>
            <a:ext cx="1158840" cy="167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6597720" cy="69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Wide Latin"/>
              </a:rPr>
              <a:t>IRISH SENIOR CITIZENS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PROTEST R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gain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ttacks on Senior Citizens in Budge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UES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r>
              <a:rPr b="1" lang="en-IE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 OCTOBER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(5</a:t>
            </a:r>
            <a:r>
              <a:rPr b="1" lang="en-IE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 Anniversary of 2008 Pro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Assembling 1.00pm to 1.15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ÁIL ÉIRE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MOLESWORTH STREET, DUBLI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8604360"/>
            <a:ext cx="64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hone: 01 8561243                               Email: info@seniors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05:47Z</dcterms:created>
  <dc:creator>Dolores Meehan</dc:creator>
  <dc:description/>
  <dc:language>en-US</dc:language>
  <cp:lastModifiedBy> </cp:lastModifiedBy>
  <dcterms:modified xsi:type="dcterms:W3CDTF">2013-10-17T08:40:33Z</dcterms:modified>
  <cp:revision>14</cp:revision>
  <dc:subject/>
  <dc:title>Slide 1</dc:title>
</cp:coreProperties>
</file>