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1871A-4544-4FC2-A02B-D3BB08EE5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13F27-5AF4-41EE-9E07-614BFE164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2FBC8-1F95-4BC4-B5AC-5DA53B99A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8DAED-D6FE-4432-A294-172547FFB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E6CB4-2625-49CE-AFE1-64F035F65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1AF2B-5CC3-400D-9797-1A98402A6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D302F-F99B-4E9E-84BE-3E01446FE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DB46F-7CD1-4DC2-A10E-03D08027A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D8043-5BA3-465C-A25A-E62394512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8B802-7B2D-4D65-9995-377737C65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31787-2298-42FF-A89A-22EBF0E2D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C4A49-FD41-4C2E-BB21-E9904D7CB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303A-4CDD-486C-8339-FE750DF8A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FC6FC-90CE-4417-9A78-4B59839F4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78966-92C9-45CB-97B6-EC424844A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FDC57-58C3-475C-BA76-66510930C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B3005-AA3D-4D16-8253-FD7D6F812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47DF8C-7702-4011-85DF-012EAEC8BF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1D255-376B-4670-8517-B7A5380E50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0395DE-9366-4281-82E4-F4EEBD6C7C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5F548-B162-4746-8E3C-442AC48A95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BFA296-64C6-4AFB-9312-A66674C97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21450-80F2-4EA3-BDB8-4FB90785D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0D398-FAC0-47E6-B90C-0C1F1DF66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5960B-E007-447D-961C-854C42266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20783-73FE-4696-A2B4-E7F7FDFBF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A8499-B08F-40D1-8AE9-BFEB9EACC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26E075-C609-48D3-9F95-EDCF63F0A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92C737-82D5-4972-A9D8-1130C9598F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779308-1037-487D-ADCF-2E9F78E23A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90B673-C100-480C-8A44-A2C3A81D80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B0D171-D0E2-4063-B64D-23B843E852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D983D0-5938-4890-9DC5-935EE7E238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8F9B3-2253-4666-BD3B-62C137E22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E7753E-F21A-4A14-8307-05DF981AB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522577-EA4F-4251-AF15-8F41C82CF3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4533CE-75EC-4662-B6FA-777F5DDF15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8157A-32B3-4BD2-88EE-B245B2BDB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3D67E-245E-4304-B38A-C8CC32FCB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D3AC98-E145-462A-A16E-D6ED103E8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09C4A-07F3-4D94-AEDB-D10B381A6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5567A3-A179-40FB-AB64-CB6293C551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F4C17C-4B69-4BF1-B520-FF0CC7D947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FDA8E4-0C7E-4FFB-B882-F5036305E6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8EC50-38F2-4C59-89D3-10510F353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A922B-F9FF-45FD-9929-EEBA2ABCE8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A7698-1A22-49B0-BCF5-848BEABD54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D5421E-0D27-4B4B-8FDC-96C4D01FF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D1A73A-68F5-440F-B509-A630DAF72D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1DD568-70A1-4A5F-93E6-07FDF7D300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710352-7162-4AC8-A5AF-5E2E3A320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AB0A4-48BA-45DD-AA18-EBA4E72BD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2FACC-F1BD-4682-8AA3-81D6399B4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9DED4-20E3-412E-B3A8-9C11CEEC8C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EA27E3-3710-4445-B345-D2D429A0FF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6FC5E-7CF3-47B4-B6B7-7A075577D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76AB1D-9851-468A-96F2-C3B2E30CB7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25D30B-4B1E-479B-BF78-25C72978F9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0C6417-F0F8-443C-8D00-E20146E9FD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72C3F8-3704-4838-98AB-65441DE17B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01CFDC-B9CF-4DA7-BB42-060F66B20C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EB2EDD-9712-4B68-AC2F-29859BB5E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5CCA18-80F7-45EE-B642-D0E07E60A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86CD5-BAF5-4DC3-AA28-52C8CE3DA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334480-97F0-4633-81A8-9C9902B70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21538-6450-40DC-A366-2E3C2FF23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BBAD6-52C7-4855-A10C-1DA0FC908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34727-56E6-4988-A86B-BFC58B53A7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14D68D-C509-44DF-8101-E3E5ACFBD8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63A327-6DED-4116-9D6C-1946ECB5AE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803B2E-2F99-429E-8337-C3DE534C07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6DF09B-D7A1-4B60-BADA-8A900A9579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BD0472-9CDF-4632-B2ED-CB71BD6C65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97A34-5C1A-4FA7-8030-9630BD2F49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CC5CEE-118D-4D15-AB74-3573421163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D35214-88B0-4D86-92AB-5AC426269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6F8137-C43A-4A07-B521-7DEBDD078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F1200-7C69-4FE6-A8CE-76258DD95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8E218D-95D8-4C70-B121-929FCF887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E74F5-410C-4953-AF57-CC3292ACF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A4A390-A4B9-4B6B-81EE-65C0842054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0FBEAB-2EA0-455B-B26D-4AF790A27C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6EC43E-215C-443C-9BDA-1E451CB1D9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23FC02-ADD3-42B1-A500-A7E9AC0A2D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ADBED-2978-44A8-889F-CC29F6D8B7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9D970F-09CF-4D80-81ED-87587AFB9D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B7829A-5B20-42C0-8BF8-FF7A8002E8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F6481C-529A-4A07-AF03-3975DCC171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713B2-A149-4167-93E7-12358AC2D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F7E8B8-E851-4BCA-9346-65E7537BAE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44F689-510C-484C-8E24-AEFEB60EA6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B587F-5EA3-4931-B67E-7DCABCB5F8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4A245-A5ED-4965-AA7B-75D45588F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B1B41E-AD73-4699-96F5-DCCF1FC55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2B1288-2034-4885-8A57-3851348C6F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2396B9-0DD9-459E-AD9B-57A8F22A631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0C08-F45F-478C-B44D-A2F05EB93DCA}"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Connettore 1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Connettore 1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Triangolo isosce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ttangolo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ttangolo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ttangolo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ttangolo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B86C-65D3-4AF2-BA79-1039D830A1CD}"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ttangolo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ttangolo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Gill Sans MT"/>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C2B7-82B3-44BD-9684-9332B8D30AF6}" type="slidenum">
              <a:rPr b="0" lang="it-IT"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Connettore 1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Connettore 1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riangolo isosce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riangolo isosce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C9FD-D508-4BD2-A9A3-2E1CFBE6C9AB}"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Connettore 1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riangolo isosce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CFE0-AC19-42C0-8FDC-58563623086E}"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Connettore 1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Connettore 1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riangolo isosce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D9A7-D696-462D-A6A0-34FFD0E19741}"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Connettore 1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riangolo isosce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ttangolo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Gill Sans MT"/>
              </a:rPr>
              <a:t>&lt;date/time&gt;</a:t>
            </a:r>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711E-6050-47CE-916B-807F61ABA927}" type="slidenum">
              <a:rPr b="0" lang="it-IT"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Connettore 1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riangolo isosce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onnettore 1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Gill Sans MT"/>
              </a:rPr>
              <a:t>&lt;date/time&gt;</a:t>
            </a:r>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6B93-0C1E-41E0-AF7F-A48CE201982C}" type="slidenum">
              <a:rPr b="0" lang="it-IT"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13840" y="214200"/>
            <a:ext cx="89298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64653"/>
                </a:solidFill>
                <a:latin typeface="Bookman Old Style"/>
              </a:rPr>
              <a:t>Global Solidarity Champions course</a:t>
            </a:r>
            <a:br>
              <a:rPr sz="3200"/>
            </a:br>
            <a:r>
              <a:rPr b="0" i="1" lang="en-US" sz="3200" spc="-1" strike="noStrike">
                <a:solidFill>
                  <a:srgbClr val="464653"/>
                </a:solidFill>
                <a:latin typeface="Bookman Old Style"/>
              </a:rPr>
              <a:t>Dublin, 19 March 2009 </a:t>
            </a:r>
            <a:endParaRPr b="0" lang="en-US" sz="3200" spc="-1" strike="noStrike">
              <a:solidFill>
                <a:srgbClr val="464653"/>
              </a:solidFill>
              <a:latin typeface="Bookman Old Style"/>
            </a:endParaRPr>
          </a:p>
        </p:txBody>
      </p:sp>
      <p:sp>
        <p:nvSpPr>
          <p:cNvPr id="353" name=""/>
          <p:cNvSpPr txBox="1"/>
          <p:nvPr/>
        </p:nvSpPr>
        <p:spPr>
          <a:xfrm>
            <a:off x="457200" y="1143000"/>
            <a:ext cx="8229600" cy="5138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Gill Sans MT"/>
              </a:rPr>
              <a:t>Globalisation, </a:t>
            </a:r>
            <a:endParaRPr b="0" lang="en-US" sz="4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Gill Sans MT"/>
              </a:rPr>
              <a:t>transnational companies </a:t>
            </a:r>
            <a:endParaRPr b="0" lang="en-US" sz="4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Gill Sans MT"/>
              </a:rPr>
              <a:t>and the race to the bottom</a:t>
            </a:r>
            <a:endParaRPr b="0" lang="en-US" sz="4800" spc="-1" strike="noStrike">
              <a:solidFill>
                <a:srgbClr val="000000"/>
              </a:solidFill>
              <a:latin typeface="Gill Sans MT"/>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Silvana Cappuccio, ITGLWF</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464653"/>
                </a:solidFill>
                <a:latin typeface="Bookman Old Style"/>
              </a:rPr>
              <a:t>Corporate taxation </a:t>
            </a:r>
            <a:br>
              <a:rPr sz="3600"/>
            </a:br>
            <a:r>
              <a:rPr b="1" i="1" lang="it-IT" sz="3600" spc="-1" strike="noStrike">
                <a:solidFill>
                  <a:srgbClr val="464653"/>
                </a:solidFill>
                <a:latin typeface="Bookman Old Style"/>
              </a:rPr>
              <a:t>in the XX century</a:t>
            </a:r>
            <a:endParaRPr b="0" lang="en-US" sz="3600" spc="-1" strike="noStrike">
              <a:solidFill>
                <a:srgbClr val="464653"/>
              </a:solidFill>
              <a:latin typeface="Bookman Old Style"/>
            </a:endParaRPr>
          </a:p>
        </p:txBody>
      </p:sp>
      <p:sp>
        <p:nvSpPr>
          <p:cNvPr id="368" name=""/>
          <p:cNvSpPr txBox="1"/>
          <p:nvPr/>
        </p:nvSpPr>
        <p:spPr>
          <a:xfrm>
            <a:off x="-360" y="1142640"/>
            <a:ext cx="9001080" cy="500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s </a:t>
            </a:r>
            <a:endParaRPr b="0" lang="en-US" sz="3200" spc="-1" strike="noStrike">
              <a:solidFill>
                <a:srgbClr val="000000"/>
              </a:solidFill>
              <a:latin typeface="Gill Sans MT"/>
            </a:endParaRPr>
          </a:p>
          <a:p>
            <a:pPr marL="272880" indent="-272880">
              <a:spcBef>
                <a:spcPts val="601"/>
              </a:spcBef>
              <a:buClr>
                <a:srgbClr val="727ca3"/>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interdependence between countries and</a:t>
            </a:r>
            <a:endParaRPr b="0" lang="en-US" sz="3200" spc="-1" strike="noStrike">
              <a:solidFill>
                <a:srgbClr val="000000"/>
              </a:solidFill>
              <a:latin typeface="Gill Sans MT"/>
            </a:endParaRPr>
          </a:p>
          <a:p>
            <a:pPr marL="272880" indent="-272880">
              <a:spcBef>
                <a:spcPts val="601"/>
              </a:spcBef>
              <a:buClr>
                <a:srgbClr val="727ca3"/>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the importance of economic links between them </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Has become unprecedented</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o national corporate tax rates </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have been converging internationall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464653"/>
                </a:solidFill>
                <a:latin typeface="Bookman Old Style"/>
              </a:rPr>
              <a:t>Corporate taxation </a:t>
            </a:r>
            <a:br>
              <a:rPr sz="3600"/>
            </a:br>
            <a:r>
              <a:rPr b="1" i="1" lang="it-IT" sz="3600" spc="-1" strike="noStrike">
                <a:solidFill>
                  <a:srgbClr val="464653"/>
                </a:solidFill>
                <a:latin typeface="Bookman Old Style"/>
              </a:rPr>
              <a:t>in the XX century</a:t>
            </a:r>
            <a:endParaRPr b="0" lang="en-US" sz="3600" spc="-1" strike="noStrike">
              <a:solidFill>
                <a:srgbClr val="464653"/>
              </a:solidFill>
              <a:latin typeface="Bookman Old Style"/>
            </a:endParaRPr>
          </a:p>
        </p:txBody>
      </p:sp>
      <p:sp>
        <p:nvSpPr>
          <p:cNvPr id="370" name=""/>
          <p:cNvSpPr txBox="1"/>
          <p:nvPr/>
        </p:nvSpPr>
        <p:spPr>
          <a:xfrm>
            <a:off x="-360" y="1142640"/>
            <a:ext cx="9001080" cy="500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ill Sans MT"/>
              </a:rPr>
              <a:t>Tax deductions</a:t>
            </a:r>
            <a:endParaRPr b="0" lang="en-US" sz="80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r</a:t>
            </a:r>
            <a:endParaRPr b="0" lang="en-US" sz="24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ill Sans MT"/>
              </a:rPr>
              <a:t>Tax holidays</a:t>
            </a:r>
            <a:endParaRPr b="0" lang="en-US" sz="8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2" descr="http://www.polyp.org.uk/cartoons/democracy/polyp_cartoon_Corporate_Thumb.jpg"/>
          <p:cNvPicPr/>
          <p:nvPr/>
        </p:nvPicPr>
        <p:blipFill>
          <a:blip r:embed="rId1"/>
          <a:stretch/>
        </p:blipFill>
        <p:spPr>
          <a:xfrm>
            <a:off x="2027160" y="0"/>
            <a:ext cx="6259680" cy="664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64653"/>
                </a:solidFill>
                <a:latin typeface="Bookman Old Style"/>
              </a:rPr>
              <a:t>The rise of </a:t>
            </a:r>
            <a:br>
              <a:rPr sz="3200"/>
            </a:br>
            <a:r>
              <a:rPr b="1" lang="it-IT" sz="3200" spc="-1" strike="noStrike">
                <a:solidFill>
                  <a:srgbClr val="464653"/>
                </a:solidFill>
                <a:latin typeface="Bookman Old Style"/>
              </a:rPr>
              <a:t>export processing zones (EPZ)</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Exemptions from import and export duties</a:t>
            </a:r>
            <a:endParaRPr b="0" lang="en-US" sz="4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Exemptions from capital gains taxes</a:t>
            </a:r>
            <a:endParaRPr b="0" lang="en-US" sz="4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Violate labour laws</a:t>
            </a:r>
            <a:endParaRPr b="0" lang="en-US" sz="4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Ban trade unions</a:t>
            </a:r>
            <a:endParaRPr b="0" lang="en-US" sz="4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Violate human rights</a:t>
            </a: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64653"/>
                </a:solidFill>
                <a:latin typeface="Bookman Old Style"/>
              </a:rPr>
              <a:t>The spread of tax have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Only in the last 25 years…</a:t>
            </a:r>
            <a:endParaRPr b="0" lang="en-US" sz="44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a:t>
            </a:r>
            <a:r>
              <a:rPr b="1" lang="en-US" sz="4400" spc="-1" strike="noStrike">
                <a:solidFill>
                  <a:srgbClr val="000000"/>
                </a:solidFill>
                <a:latin typeface="Gill Sans MT"/>
              </a:rPr>
              <a:t>73 countries and territories </a:t>
            </a:r>
            <a:endParaRPr b="0" lang="en-US" sz="44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which fit </a:t>
            </a:r>
            <a:endParaRPr b="0" lang="en-US" sz="44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the classification of tax haven</a:t>
            </a: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64653"/>
              </a:solidFill>
              <a:latin typeface="Gill Sans MT"/>
            </a:endParaRPr>
          </a:p>
        </p:txBody>
      </p:sp>
      <p:sp>
        <p:nvSpPr>
          <p:cNvPr id="377" name=""/>
          <p:cNvSpPr txBox="1"/>
          <p:nvPr/>
        </p:nvSpPr>
        <p:spPr>
          <a:xfrm>
            <a:off x="304920" y="304920"/>
            <a:ext cx="5767200" cy="6053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Let's not pretend that things will change if we keep doing the same things. A crisis can be a real blessing to any person, to any nation. For all crises bring progress.</a:t>
            </a:r>
            <a:br>
              <a:rPr sz="1600"/>
            </a:br>
            <a:br>
              <a:rPr sz="1600"/>
            </a:br>
            <a:r>
              <a:rPr b="1" i="1" lang="en-US" sz="1600" spc="-1" strike="noStrike">
                <a:solidFill>
                  <a:srgbClr val="000000"/>
                </a:solidFill>
                <a:latin typeface="Gill Sans MT"/>
              </a:rPr>
              <a:t>Creativity is born from anguish, just like the day is born form the dark night. It's in crisis that inventive is born, as well as discoveries, and big strategies. Who overcomes crisis, overcomes himself, without getting overcome. Who blames his failure to a crisis neglects his own talent, and is more respectful to problems than to solutions. Incompetence is the true crisis.</a:t>
            </a:r>
            <a:br>
              <a:rPr sz="1600"/>
            </a:br>
            <a:br>
              <a:rPr sz="1600"/>
            </a:br>
            <a:r>
              <a:rPr b="1" i="1" lang="en-US" sz="1600" spc="-1" strike="noStrike">
                <a:solidFill>
                  <a:srgbClr val="000000"/>
                </a:solidFill>
                <a:latin typeface="Gill Sans MT"/>
              </a:rPr>
              <a:t>The greatest inconvenience of people and nations is the laziness with which they attempt to find the solutions to their problems. There's no challenge without a crisis. Without challenges, life becomes a routine, a slow agony. There’s no merit without crisis. It's in the crisis where we can show the very best in us. Without a crisis, any wind becomes a tender touch. To speak about a crisis is to promote it. Not to speak about it is to exalt conformism. Let us work hard instead.</a:t>
            </a:r>
            <a:br>
              <a:rPr sz="1600"/>
            </a:br>
            <a:br>
              <a:rPr sz="1600"/>
            </a:br>
            <a:r>
              <a:rPr b="1" i="1" lang="en-US" sz="1600" spc="-1" strike="noStrike">
                <a:solidFill>
                  <a:srgbClr val="000000"/>
                </a:solidFill>
                <a:latin typeface="Gill Sans MT"/>
              </a:rPr>
              <a:t>Let us stop, once and for all, the menacing crisis that represents the tragedy of not being willing to overcome it.</a:t>
            </a:r>
            <a:endParaRPr b="0" lang="en-US" sz="1600" spc="-1" strike="noStrike">
              <a:solidFill>
                <a:srgbClr val="000000"/>
              </a:solidFill>
              <a:latin typeface="Gill Sans MT"/>
            </a:endParaRPr>
          </a:p>
        </p:txBody>
      </p:sp>
      <p:sp>
        <p:nvSpPr>
          <p:cNvPr id="378"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80"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81"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83"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84"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86"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87"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89"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90"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http://www.cartoonstock.com/newscartoons/cartoonists/jsi/lowres/jsin378l.jpg"/>
          <p:cNvPicPr/>
          <p:nvPr/>
        </p:nvPicPr>
        <p:blipFill>
          <a:blip r:embed="rId1"/>
          <a:stretch/>
        </p:blipFill>
        <p:spPr>
          <a:xfrm>
            <a:off x="828720" y="662040"/>
            <a:ext cx="6958080" cy="541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324120" y="304920"/>
            <a:ext cx="25146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464653"/>
                </a:solidFill>
                <a:latin typeface="Gill Sans MT"/>
              </a:rPr>
              <a:t>Crisis </a:t>
            </a:r>
            <a:br>
              <a:rPr sz="2000"/>
            </a:br>
            <a:r>
              <a:rPr b="1" i="1" lang="it-IT" sz="2000" spc="-1" strike="noStrike">
                <a:solidFill>
                  <a:srgbClr val="464653"/>
                </a:solidFill>
                <a:latin typeface="Gill Sans MT"/>
              </a:rPr>
              <a:t>according to…..</a:t>
            </a:r>
            <a:endParaRPr b="0" lang="en-US" sz="2000" spc="-1" strike="noStrike">
              <a:solidFill>
                <a:srgbClr val="464653"/>
              </a:solidFill>
              <a:latin typeface="Bookman Old Style"/>
            </a:endParaRPr>
          </a:p>
        </p:txBody>
      </p:sp>
      <p:sp>
        <p:nvSpPr>
          <p:cNvPr id="392" name=""/>
          <p:cNvSpPr txBox="1"/>
          <p:nvPr/>
        </p:nvSpPr>
        <p:spPr>
          <a:xfrm>
            <a:off x="304920" y="304920"/>
            <a:ext cx="5767200" cy="6053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Let's not pretend that things will change if we keep doing the same things. A crisis can be a real blessing to any person, to any nation. For all crises bring progress.</a:t>
            </a:r>
            <a:br>
              <a:rPr sz="1600"/>
            </a:br>
            <a:br>
              <a:rPr sz="1600"/>
            </a:br>
            <a:r>
              <a:rPr b="1" i="1" lang="en-US" sz="1600" spc="-1" strike="noStrike">
                <a:solidFill>
                  <a:srgbClr val="000000"/>
                </a:solidFill>
                <a:latin typeface="Gill Sans MT"/>
              </a:rPr>
              <a:t>Creativity is born from anguish, just like the day is born form the dark night. It's in crisis that inventive is born, as well as discoveries, and big strategies. Who overcomes crisis, overcomes himself, without getting overcome. Who blames his failure to a crisis neglects his own talent, and is more respectful to problems than to solutions. Incompetence is the true crisis.</a:t>
            </a:r>
            <a:br>
              <a:rPr sz="1600"/>
            </a:br>
            <a:br>
              <a:rPr sz="1600"/>
            </a:br>
            <a:r>
              <a:rPr b="1" i="1" lang="en-US" sz="1600" spc="-1" strike="noStrike">
                <a:solidFill>
                  <a:srgbClr val="000000"/>
                </a:solidFill>
                <a:latin typeface="Gill Sans MT"/>
              </a:rPr>
              <a:t>The greatest inconvenience of people and nations is the laziness with which they attempt to find the solutions to their problems. There's no challenge without a crisis. Without challenges, life becomes a routine, a slow agony. There’s no merit without crisis. It's in the crisis where we can show the very best in us. Without a crisis, any wind becomes a tender touch. To speak about a crisis is to promote it. Not to speak about it is to exalt conformism. Let us work hard instead.</a:t>
            </a:r>
            <a:br>
              <a:rPr sz="1600"/>
            </a:br>
            <a:br>
              <a:rPr sz="1600"/>
            </a:br>
            <a:r>
              <a:rPr b="1" i="1" lang="en-US" sz="1600" spc="-1" strike="noStrike">
                <a:solidFill>
                  <a:srgbClr val="000000"/>
                </a:solidFill>
                <a:latin typeface="Gill Sans MT"/>
              </a:rPr>
              <a:t>Let us stop, once and for all, the menacing crisis that represents the tragedy of not being willing to overcome it.</a:t>
            </a:r>
            <a:endParaRPr b="0" lang="en-US" sz="1600" spc="-1" strike="noStrike">
              <a:solidFill>
                <a:srgbClr val="000000"/>
              </a:solidFill>
              <a:latin typeface="Gill Sans MT"/>
            </a:endParaRPr>
          </a:p>
        </p:txBody>
      </p:sp>
      <p:sp>
        <p:nvSpPr>
          <p:cNvPr id="393"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pic>
        <p:nvPicPr>
          <p:cNvPr id="394" name="Immagine 7" descr="einstein.jpg"/>
          <p:cNvPicPr/>
          <p:nvPr/>
        </p:nvPicPr>
        <p:blipFill>
          <a:blip r:embed="rId1"/>
          <a:stretch/>
        </p:blipFill>
        <p:spPr>
          <a:xfrm>
            <a:off x="6357960" y="1285920"/>
            <a:ext cx="2400120" cy="2347920"/>
          </a:xfrm>
          <a:prstGeom prst="rect">
            <a:avLst/>
          </a:prstGeom>
          <a:ln w="0">
            <a:noFill/>
          </a:ln>
        </p:spPr>
      </p:pic>
      <p:pic>
        <p:nvPicPr>
          <p:cNvPr id="395" name="Immagine 8" descr="einstein signature.jpg"/>
          <p:cNvPicPr/>
          <p:nvPr/>
        </p:nvPicPr>
        <p:blipFill>
          <a:blip r:embed="rId2"/>
          <a:stretch/>
        </p:blipFill>
        <p:spPr>
          <a:xfrm>
            <a:off x="6572160" y="5000760"/>
            <a:ext cx="2017800" cy="50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397"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398"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324120" y="304920"/>
            <a:ext cx="2514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64653"/>
              </a:solidFill>
              <a:latin typeface="Gill Sans MT"/>
            </a:endParaRPr>
          </a:p>
        </p:txBody>
      </p:sp>
      <p:sp>
        <p:nvSpPr>
          <p:cNvPr id="400" name="PlaceHolder 2"/>
          <p:cNvSpPr>
            <a:spLocks noGrp="1"/>
          </p:cNvSpPr>
          <p:nvPr>
            <p:ph/>
          </p:nvPr>
        </p:nvSpPr>
        <p:spPr>
          <a:xfrm>
            <a:off x="6324120" y="1219320"/>
            <a:ext cx="2514600" cy="484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Gill Sans MT"/>
            </a:endParaRPr>
          </a:p>
        </p:txBody>
      </p:sp>
      <p:sp>
        <p:nvSpPr>
          <p:cNvPr id="401" name=""/>
          <p:cNvSpPr txBox="1"/>
          <p:nvPr/>
        </p:nvSpPr>
        <p:spPr>
          <a:xfrm>
            <a:off x="304560" y="304560"/>
            <a:ext cx="5715000" cy="5715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0" y="857160"/>
            <a:ext cx="8686800" cy="5299200"/>
          </a:xfrm>
          <a:prstGeom prst="rect">
            <a:avLst/>
          </a:prstGeom>
          <a:noFill/>
          <a:ln w="0">
            <a:noFill/>
          </a:ln>
        </p:spPr>
        <p:txBody>
          <a:bodyPr anchor="t">
            <a:normAutofit fontScale="91000"/>
          </a:bodyPr>
          <a:p>
            <a:pPr marL="248040" indent="-248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ill Sans MT"/>
            </a:endParaRPr>
          </a:p>
          <a:p>
            <a:pPr marL="248040" indent="-248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0000"/>
                </a:solidFill>
                <a:latin typeface="Gill Sans MT"/>
              </a:rPr>
              <a:t>Globalisation </a:t>
            </a:r>
            <a:endParaRPr b="0" lang="en-US" sz="6600" spc="-1" strike="noStrike">
              <a:solidFill>
                <a:srgbClr val="000000"/>
              </a:solidFill>
              <a:latin typeface="Gill Sans MT"/>
            </a:endParaRPr>
          </a:p>
          <a:p>
            <a:pPr marL="248040" indent="-248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0000"/>
                </a:solidFill>
                <a:latin typeface="Gill Sans MT"/>
              </a:rPr>
              <a:t>and its contridictions: </a:t>
            </a:r>
            <a:br>
              <a:rPr sz="6600"/>
            </a:br>
            <a:endParaRPr b="0" lang="en-US" sz="6600" spc="-1" strike="noStrike">
              <a:solidFill>
                <a:srgbClr val="000000"/>
              </a:solidFill>
              <a:latin typeface="Gill Sans MT"/>
            </a:endParaRPr>
          </a:p>
          <a:p>
            <a:pPr marL="248040" indent="-248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0000"/>
                </a:solidFill>
                <a:latin typeface="Gill Sans MT"/>
              </a:rPr>
              <a:t>the multinationals</a:t>
            </a:r>
            <a:endParaRPr b="0" lang="en-US" sz="6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64653"/>
                </a:solidFill>
                <a:latin typeface="Bookman Old Style"/>
              </a:rPr>
              <a:t>Globalisation and its contradictions: </a:t>
            </a:r>
            <a:br>
              <a:rPr sz="3200"/>
            </a:br>
            <a:r>
              <a:rPr b="1" lang="it-IT" sz="3200" spc="-1" strike="noStrike">
                <a:solidFill>
                  <a:srgbClr val="464653"/>
                </a:solidFill>
                <a:latin typeface="Bookman Old Style"/>
              </a:rPr>
              <a:t>the multinationals</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anchor="t">
            <a:normAutofit fontScale="86000"/>
          </a:bodyPr>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Gill Sans MT"/>
              </a:rPr>
              <a:t>Cuts in statutory corporate tax rates</a:t>
            </a:r>
            <a:endParaRPr b="0" lang="en-US" sz="6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Gill Sans MT"/>
              </a:rPr>
              <a:t>The rise of export processing zones (epz)</a:t>
            </a:r>
            <a:endParaRPr b="0" lang="en-US" sz="6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Gill Sans MT"/>
              </a:rPr>
              <a:t>The spread of tax havens</a:t>
            </a:r>
            <a:endParaRPr b="0" lang="en-US" sz="6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1" lang="it-IT" sz="3200" spc="-1" strike="noStrike">
                <a:solidFill>
                  <a:srgbClr val="464653"/>
                </a:solidFill>
                <a:latin typeface="Bookman Old Style"/>
              </a:rPr>
              <a:t>Cuts in statutory corporate tax rates</a:t>
            </a:r>
            <a:br>
              <a:rPr sz="3200"/>
            </a:b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In the last two decades</a:t>
            </a:r>
            <a:endParaRPr b="0" lang="en-US" sz="3600" spc="-1" strike="noStrike">
              <a:solidFill>
                <a:srgbClr val="000000"/>
              </a:solidFill>
              <a:latin typeface="Gill Sans MT"/>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Trends of </a:t>
            </a:r>
            <a:endParaRPr b="0" lang="en-US" sz="3600" spc="-1" strike="noStrike">
              <a:solidFill>
                <a:srgbClr val="000000"/>
              </a:solidFill>
              <a:latin typeface="Gill Sans MT"/>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70c0"/>
                </a:solidFill>
                <a:latin typeface="Gill Sans MT"/>
              </a:rPr>
              <a:t>Tax avoidance</a:t>
            </a:r>
            <a:r>
              <a:rPr b="1" lang="it-IT" sz="3600" spc="-1" strike="noStrike">
                <a:solidFill>
                  <a:srgbClr val="000000"/>
                </a:solidFill>
                <a:latin typeface="Gill Sans MT"/>
              </a:rPr>
              <a:t> and</a:t>
            </a:r>
            <a:endParaRPr b="0" lang="en-US" sz="3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Competition of Govenments in </a:t>
            </a:r>
            <a:r>
              <a:rPr b="1" lang="it-IT" sz="4800" spc="-1" strike="noStrike">
                <a:solidFill>
                  <a:srgbClr val="0070c0"/>
                </a:solidFill>
                <a:latin typeface="Gill Sans MT"/>
              </a:rPr>
              <a:t>cutting corporate tax rates </a:t>
            </a:r>
            <a:endParaRPr b="0" lang="en-US" sz="4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60" y="152280"/>
            <a:ext cx="900108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464653"/>
                </a:solidFill>
                <a:latin typeface="Bookman Old Style"/>
              </a:rPr>
              <a:t>Corporate tax rates </a:t>
            </a:r>
            <a:br>
              <a:rPr sz="2800"/>
            </a:br>
            <a:r>
              <a:rPr b="1" i="1" lang="it-IT" sz="2800" spc="-1" strike="noStrike">
                <a:solidFill>
                  <a:srgbClr val="464653"/>
                </a:solidFill>
                <a:latin typeface="Bookman Old Style"/>
              </a:rPr>
              <a:t>in industrialised countries</a:t>
            </a:r>
            <a:endParaRPr b="0" lang="en-US" sz="28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Falled from around 45% to 30%</a:t>
            </a:r>
            <a:endParaRPr b="0" lang="en-US" sz="3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Growing number of multinationals </a:t>
            </a:r>
            <a:endParaRPr b="0" lang="en-US" sz="3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lvl="3" marL="1063800" indent="-2214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paying either no tax at all or </a:t>
            </a:r>
            <a:endParaRPr b="0" lang="en-US" sz="3600" spc="-1" strike="noStrike">
              <a:solidFill>
                <a:srgbClr val="000000"/>
              </a:solidFill>
              <a:latin typeface="Gill Sans MT"/>
            </a:endParaRPr>
          </a:p>
          <a:p>
            <a:pPr lvl="3" marL="1063800" indent="-2214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lvl="3" marL="1063800" indent="-2214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ill Sans MT"/>
              </a:rPr>
              <a:t>being taxed way below statutory rates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http://www.economist.com/images/20080112/D0208BB1.jpg"/>
          <p:cNvPicPr/>
          <p:nvPr/>
        </p:nvPicPr>
        <p:blipFill>
          <a:blip r:embed="rId1"/>
          <a:stretch/>
        </p:blipFill>
        <p:spPr>
          <a:xfrm>
            <a:off x="571680" y="428760"/>
            <a:ext cx="8001000" cy="542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464653"/>
                </a:solidFill>
                <a:latin typeface="Bookman Old Style"/>
              </a:rPr>
              <a:t>Corporate taxation </a:t>
            </a:r>
            <a:br>
              <a:rPr sz="3600"/>
            </a:br>
            <a:r>
              <a:rPr b="1" i="1" lang="it-IT" sz="3600" spc="-1" strike="noStrike">
                <a:solidFill>
                  <a:srgbClr val="464653"/>
                </a:solidFill>
                <a:latin typeface="Bookman Old Style"/>
              </a:rPr>
              <a:t>in the XX century</a:t>
            </a:r>
            <a:endParaRPr b="0" lang="en-US" sz="36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Gill Sans MT"/>
              </a:rPr>
              <a:t>At the beginning of the XX century, corporate taxation was </a:t>
            </a:r>
            <a:r>
              <a:rPr b="1" lang="it-IT" sz="4000" spc="-1" strike="noStrike">
                <a:solidFill>
                  <a:srgbClr val="0070c0"/>
                </a:solidFill>
                <a:latin typeface="Gill Sans MT"/>
              </a:rPr>
              <a:t>limited</a:t>
            </a:r>
            <a:r>
              <a:rPr b="1" lang="it-IT" sz="4000" spc="-1" strike="noStrike">
                <a:solidFill>
                  <a:srgbClr val="000000"/>
                </a:solidFill>
                <a:latin typeface="Gill Sans MT"/>
              </a:rPr>
              <a:t> and almost insignificant</a:t>
            </a:r>
            <a:endParaRPr b="0" lang="en-US" sz="4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Gill Sans MT"/>
              </a:rPr>
              <a:t>During World War II and the post-war years it </a:t>
            </a:r>
            <a:r>
              <a:rPr b="1" lang="it-IT" sz="4000" spc="-1" strike="noStrike">
                <a:solidFill>
                  <a:srgbClr val="0070c0"/>
                </a:solidFill>
                <a:latin typeface="Gill Sans MT"/>
              </a:rPr>
              <a:t>peaked</a:t>
            </a:r>
            <a:r>
              <a:rPr b="1" lang="it-IT" sz="4000" spc="-1" strike="noStrike">
                <a:solidFill>
                  <a:srgbClr val="000000"/>
                </a:solidFill>
                <a:latin typeface="Gill Sans MT"/>
              </a:rPr>
              <a:t> up</a:t>
            </a:r>
            <a:endParaRPr b="0" lang="en-US" sz="4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Gill Sans MT"/>
              </a:rPr>
              <a:t>Since then it has been on a </a:t>
            </a:r>
            <a:r>
              <a:rPr b="1" lang="it-IT" sz="4000" spc="-1" strike="noStrike">
                <a:solidFill>
                  <a:srgbClr val="0070c0"/>
                </a:solidFill>
                <a:latin typeface="Gill Sans MT"/>
              </a:rPr>
              <a:t>steady decline</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464653"/>
                </a:solidFill>
                <a:latin typeface="Bookman Old Style"/>
              </a:rPr>
              <a:t>Corporate taxation </a:t>
            </a:r>
            <a:br>
              <a:rPr sz="3600"/>
            </a:br>
            <a:r>
              <a:rPr b="1" i="1" lang="it-IT" sz="3600" spc="-1" strike="noStrike">
                <a:solidFill>
                  <a:srgbClr val="464653"/>
                </a:solidFill>
                <a:latin typeface="Bookman Old Style"/>
              </a:rPr>
              <a:t>in the XX century</a:t>
            </a:r>
            <a:endParaRPr b="0" lang="en-US" sz="3600" spc="-1" strike="noStrike">
              <a:solidFill>
                <a:srgbClr val="464653"/>
              </a:solidFill>
              <a:latin typeface="Bookman Old Style"/>
            </a:endParaRPr>
          </a:p>
        </p:txBody>
      </p:sp>
      <p:sp>
        <p:nvSpPr>
          <p:cNvPr id="366" name=""/>
          <p:cNvSpPr txBox="1"/>
          <p:nvPr/>
        </p:nvSpPr>
        <p:spPr>
          <a:xfrm>
            <a:off x="-360" y="1142640"/>
            <a:ext cx="9001080" cy="500868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Over the last century there have been some similarities between countries’policy choices</a:t>
            </a: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But </a:t>
            </a: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Only in the last few decades </a:t>
            </a:r>
            <a:endParaRPr b="0" lang="en-US" sz="32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these have become real </a:t>
            </a:r>
            <a:endParaRPr b="0" lang="en-US" sz="3200" spc="-1" strike="noStrike">
              <a:solidFill>
                <a:srgbClr val="000000"/>
              </a:solidFill>
              <a:latin typeface="Gill Sans MT"/>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000000"/>
                </a:solidFill>
                <a:uFillTx/>
                <a:latin typeface="Gill Sans MT"/>
              </a:rPr>
              <a:t>parallel developments</a:t>
            </a: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15:13:20Z</dcterms:created>
  <dc:creator>Utente Windows</dc:creator>
  <dc:description/>
  <dc:language>en-US</dc:language>
  <cp:lastModifiedBy>stellanh</cp:lastModifiedBy>
  <dcterms:modified xsi:type="dcterms:W3CDTF">2009-04-01T10:49:34Z</dcterms:modified>
  <cp:revision>30</cp:revision>
  <dc:subject/>
  <dc:title>Diapositiva 1</dc:title>
</cp:coreProperties>
</file>